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643-2EC1-466C-AA0D-68F9156E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03F-4FF5-4FF9-8637-73979613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0D9-4E9F-4080-9FEA-759AF7E6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FB7-88FE-4778-BC30-642C0078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878-32DD-43A7-9CB6-09ACAF89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AAD-7931-4E57-A977-30535A8B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02B9-D7C1-4E3A-B196-8A2BD681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A2D-19E9-4C9A-BEDB-D9B41CF8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559-983F-4D69-835C-CDDDD073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240-522B-42A0-8937-EF538698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854-46F1-435E-A005-125A869D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6DE-881B-40FB-8DD7-D6CA5389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5D68-258C-46F2-9699-0FD689D59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as@Nanç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na…&amp; JE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9/1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se de donn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polarisations du plan focal du Radiotélescope de Nançay équipées par l’électronique BAO-Radio [1250-1500] MHz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tests en Juillet 2010: UGC4358 &amp; 3C227/3C28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emps dédié: 60h 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semestre 2011 sur, Abell1205, Abell2240, Abell85. Opérationnel depuis avril 201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ransfert des données sous Irod @ CCIN2P3: </a:t>
            </a:r>
            <a:r>
              <a:rPr b="0" lang="fr-FR" sz="2700" spc="-1" strike="noStrike">
                <a:solidFill>
                  <a:srgbClr val="ff0000"/>
                </a:solidFill>
                <a:latin typeface="Calibri"/>
              </a:rPr>
              <a:t>75To HP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nalyse en cours semi-automatique: calibration, nettoyage de bande, spectres ON-OFF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0000"/>
                </a:solidFill>
                <a:latin typeface="Calibri"/>
              </a:rPr>
              <a:t>But: suppression RFI, mesure HI Abell85, sensibilité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nalyse temps-fré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 1" descr=""/>
          <p:cNvPicPr/>
          <p:nvPr/>
        </p:nvPicPr>
        <p:blipFill>
          <a:blip r:embed="rId1"/>
          <a:srcRect l="29397" t="3249" r="7032" b="3388"/>
          <a:stretch/>
        </p:blipFill>
        <p:spPr>
          <a:xfrm>
            <a:off x="2484360" y="1557360"/>
            <a:ext cx="1800360" cy="490212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4"/>
          <p:cNvSpPr/>
          <p:nvPr/>
        </p:nvSpPr>
        <p:spPr>
          <a:xfrm>
            <a:off x="4842720" y="2349360"/>
            <a:ext cx="377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ux d’acquisition 8~1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50MHz de largeur de b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in de ~30kHz (FFT au v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65880" cy="4003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881160" cy="122400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4"/>
          <p:cNvSpPr/>
          <p:nvPr/>
        </p:nvSpPr>
        <p:spPr>
          <a:xfrm>
            <a:off x="4519800" y="98100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: running over 105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mall set just for demon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1857960" y="1916280"/>
            <a:ext cx="53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_i] = 0 and stdDev[r_i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ZoneTexte 12"/>
          <p:cNvSpPr/>
          <p:nvPr/>
        </p:nvSpPr>
        <p:spPr>
          <a:xfrm>
            <a:off x="4532400" y="638172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lot with the median filtering coming so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3"/>
          <p:cNvSpPr/>
          <p:nvPr/>
        </p:nvSpPr>
        <p:spPr>
          <a:xfrm>
            <a:off x="48276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8250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662120" y="480960"/>
            <a:ext cx="58197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Sigma evolution in the protected freq. zone after 100 cy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508720" cy="551664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4"/>
          <p:cNvSpPr/>
          <p:nvPr/>
        </p:nvSpPr>
        <p:spPr>
          <a:xfrm>
            <a:off x="6312960" y="314172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th channel follow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/sqrt(time)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340000" y="96840"/>
            <a:ext cx="6619680" cy="657216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2"/>
          <p:cNvSpPr/>
          <p:nvPr/>
        </p:nvSpPr>
        <p:spPr>
          <a:xfrm>
            <a:off x="16200" y="3068640"/>
            <a:ext cx="296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 frequency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nly median filtering ove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quets in 25600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290600" y="76320"/>
            <a:ext cx="6562800" cy="670536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2"/>
          <p:cNvSpPr/>
          <p:nvPr/>
        </p:nvSpPr>
        <p:spPr>
          <a:xfrm>
            <a:off x="3207240" y="2276640"/>
            <a:ext cx="1837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alactic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nçay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1400-1427]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40Z</dcterms:created>
  <dc:creator>J.E CAMPAGNE</dc:creator>
  <dc:description/>
  <dc:language>en-US</dc:language>
  <cp:lastModifiedBy>J.E CAMPAGNE</cp:lastModifiedBy>
  <dcterms:modified xsi:type="dcterms:W3CDTF">2011-11-08T15:46:18Z</dcterms:modified>
  <cp:revision>12</cp:revision>
  <dc:subject/>
  <dc:title>Diapositive 1</dc:title>
</cp:coreProperties>
</file>